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2A61-3965-42C6-8733-7B93E89B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3AF2-916D-4F77-B534-ABF0A61C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1DCE-E9CA-4611-B83A-71E88E01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20B0-E8F9-4EFD-8157-9A0E8D83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FF10-2982-407C-BEE5-A896DCAB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E8E-577D-4362-80B5-52DB11BF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8169-74E3-4F7A-B639-019E95DD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A542-7C6B-4DA6-8292-6AC06ACC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72CF-26C6-485D-BBF1-283C2701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768-D0F8-4A71-82B6-2ACF3BD5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AB4B-4763-473B-9C85-042AAF9D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4472-E601-486F-84C7-0E04403B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2832-F66D-45F3-AF19-C520C04633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400" cy="28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я к уроку математик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МК «Школа 2100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Тема: Решение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верка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6 : 4 = 4(дн.)-принимала микстуру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6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4 =64(т.)-должна проглотить Дун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амостоятельная работа с. 86, №1,2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Проверка: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а) 5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6 = 30(л)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б)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4 =8(кг)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в)12 : 3 = 4(см)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0 : 2 = 15(см2)-занимает пиро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0 : 5 =6(см2)-занимает пудин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5 – 6 = 9(см2)-больш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ирога, чем пудин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: на 9 см2 больш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тр. 86, №3, стр. 87, №9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 теперь проверь, дружок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ы готов начать урок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се ль на месте, все ль в порядк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учка, книжка и тетрадка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се ли правильно сидят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се ль внимательно глядят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желаем всем удачи –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 работу, в добрый час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12,24,18,15,2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12,15,18,21,2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ределите, какое наименьшее количество линий нужно провести, чтобы прямоугольник оказался поделен на 16 равных треугольник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1928880" y="1357200"/>
            <a:ext cx="5572080" cy="5143680"/>
          </a:xfrm>
          <a:prstGeom prst="rect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4"/>
          <p:cNvSpPr/>
          <p:nvPr/>
        </p:nvSpPr>
        <p:spPr>
          <a:xfrm flipH="1">
            <a:off x="1857240" y="1356480"/>
            <a:ext cx="2857680" cy="278604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Ромб 5"/>
          <p:cNvSpPr/>
          <p:nvPr/>
        </p:nvSpPr>
        <p:spPr>
          <a:xfrm>
            <a:off x="1928880" y="1357200"/>
            <a:ext cx="5572080" cy="5143680"/>
          </a:xfrm>
          <a:prstGeom prst="diamond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7"/>
          <p:cNvSpPr/>
          <p:nvPr/>
        </p:nvSpPr>
        <p:spPr>
          <a:xfrm>
            <a:off x="4786200" y="4071960"/>
            <a:ext cx="914400" cy="91440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9"/>
          <p:cNvSpPr/>
          <p:nvPr/>
        </p:nvSpPr>
        <p:spPr>
          <a:xfrm>
            <a:off x="4714920" y="1214280"/>
            <a:ext cx="0" cy="564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3"/>
          <p:cNvSpPr/>
          <p:nvPr/>
        </p:nvSpPr>
        <p:spPr>
          <a:xfrm>
            <a:off x="1285920" y="3929040"/>
            <a:ext cx="70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15"/>
          <p:cNvSpPr/>
          <p:nvPr/>
        </p:nvSpPr>
        <p:spPr>
          <a:xfrm flipH="1">
            <a:off x="1785600" y="1071720"/>
            <a:ext cx="6000840" cy="557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7"/>
          <p:cNvSpPr/>
          <p:nvPr/>
        </p:nvSpPr>
        <p:spPr>
          <a:xfrm>
            <a:off x="1643040" y="1071720"/>
            <a:ext cx="6000840" cy="557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7"/>
          <p:cNvSpPr/>
          <p:nvPr/>
        </p:nvSpPr>
        <p:spPr>
          <a:xfrm>
            <a:off x="11153160" y="2724120"/>
            <a:ext cx="199800" cy="20016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7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;     </a:t>
            </a:r>
            <a:r>
              <a:rPr b="0" lang="ru-RU" sz="7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;     </a:t>
            </a:r>
            <a:r>
              <a:rPr b="0" lang="ru-RU" sz="7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;     </a:t>
            </a:r>
            <a:r>
              <a:rPr b="0" lang="ru-RU" sz="72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16     2      8      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25,5,3,7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60,45,96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Как найти долю от числа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28440" y="2142720"/>
            <a:ext cx="735804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Чтобы найти долю числа, надо это число разделить на </a:t>
            </a: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n </a:t>
            </a: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равных частей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Как найти число по его доле? 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Чтобы найти число по его доле, надо долю этого числа умножить на число долей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резок АВ имеет длину 12 см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в. – начертите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этого отрезка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3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в.- начертите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этого отрезка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04:24:02Z</dcterms:created>
  <dc:creator>Танюша</dc:creator>
  <dc:description/>
  <dc:language>en-US</dc:language>
  <cp:lastModifiedBy>Наташа</cp:lastModifiedBy>
  <dcterms:modified xsi:type="dcterms:W3CDTF">2017-11-29T02:07:47Z</dcterms:modified>
  <cp:revision>14</cp:revision>
  <dc:subject/>
  <dc:title>А теперь проверь, дружок, Ты готов начать урок? Все ль на месте, все ль в порядке, Ручка, книжка и тетрадка? Все ли правильно сидят? Все ль внимательно глядят? Пожелаем всем удачи – За работу, в добрый час!</dc:title>
</cp:coreProperties>
</file>